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90B-CD0A-4A69-B9C8-E537ADD8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6A5-F20E-4A87-8BA9-EE3DDAF1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638-88F0-4193-B189-2C03099F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6AE-7FE2-414B-AAFC-503285C5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046C-B80F-43AF-A877-A02B4CD2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2D07-021B-46A4-BECC-58347A83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F6ED-BECE-43B2-825F-75924E91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8BF6-BD02-4370-B276-4A872F77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2E10-2386-41BB-8E06-89D593F9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B9C7-DF3D-4BCC-8434-B8C515E8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914F-3CEF-41BC-904A-239EC8C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2B5-F76C-4A84-AA93-4138736C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E370-62E0-4621-93C4-04541E0A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212D-4DE1-4CA8-925E-AA6A31E6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80F0-966B-430C-8EEC-4170A241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4315-FFB2-49AB-916B-2DC11AD5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B352-BBC1-46F4-9242-117BAFF2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D2E-07C4-4102-98FB-86AA97B1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4F12-C654-4C11-AB3E-051D13E6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673-E524-4D63-9B09-F1EBEE6A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43D-6A1F-4B84-AA2B-E6E5F713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1AA-C94A-4C93-A9A4-E232BE46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41E-38DA-483C-AA5F-648D20EE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6F6-29B2-4AE8-A483-86B31335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FADD-E348-4D01-A352-246DEBCAE656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138F-A605-4A19-869B-CBDF27D09CBC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3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410080" y="6019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47920" y="1981080"/>
            <a:ext cx="7467480" cy="4572000"/>
            <a:chOff x="1447920" y="1981080"/>
            <a:chExt cx="7467480" cy="4572000"/>
          </a:xfrm>
        </p:grpSpPr>
        <p:sp>
          <p:nvSpPr>
            <p:cNvPr id="85" name=""/>
            <p:cNvSpPr txBox="1"/>
            <p:nvPr/>
          </p:nvSpPr>
          <p:spPr>
            <a:xfrm>
              <a:off x="1447920" y="1981080"/>
              <a:ext cx="624816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营养要均衡</a:t>
              </a:r>
              <a:endPara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5562720" y="6248520"/>
              <a:ext cx="335268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469880"/>
            <a:ext cx="48006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2838600" cy="2377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43200" y="6858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是小小营养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400040" cy="112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3733920"/>
            <a:ext cx="5160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小组合作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利用今天所学的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知识配制一份营养午餐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98108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讨论一下你的食物营养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搭配原则是什么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541008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4876920" y="44956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新宋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819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我的膳食营养搭配原则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每天都吃适当的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和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运动量比较大，需要多吃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类食物，补充足够的能量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手指间有一些 脱皮，需要多吃富含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的食物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3880" y="2133720"/>
            <a:ext cx="6629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你学会了什么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898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我们从食物中获取各种营养，这些营养必须合理搭配，才能保证我们正常生活和成长，这就是营养的均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2767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679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066680" y="22860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营养均衡吗？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2133720"/>
            <a:ext cx="23716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132600" cy="6629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20" y="990720"/>
            <a:ext cx="911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均衡膳食宝塔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1523880" cy="63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1371600" cy="799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267080" y="2514600"/>
            <a:ext cx="1295640" cy="1209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343400" y="4191120"/>
            <a:ext cx="1228680" cy="904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648320" y="5638680"/>
            <a:ext cx="904680" cy="48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38088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“ </a:t>
            </a: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宝塔” 中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哪类食物能支持我们的生长发育？</a:t>
            </a:r>
            <a:r>
              <a:rPr b="1" lang="zh-CN" sz="3200" spc="-1" strike="noStrike">
                <a:solidFill>
                  <a:srgbClr val="cc00cc"/>
                </a:solidFill>
                <a:latin typeface="幼圆"/>
                <a:ea typeface="幼圆"/>
              </a:rPr>
              <a:t>哪类食物能给我们提供能量？</a:t>
            </a:r>
            <a:r>
              <a:rPr b="1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哪类食物能使我们保持健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48769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宝塔”中不同种类食物食用量的多少， 又告诉了我们什么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86400" y="3479760"/>
            <a:ext cx="3657600" cy="3378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43400" y="388620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42000" y="2743200"/>
            <a:ext cx="34020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2743200"/>
            <a:ext cx="1676520" cy="533520"/>
          </a:xfrm>
          <a:prstGeom prst="leftArrow">
            <a:avLst>
              <a:gd name="adj1" fmla="val 50000"/>
              <a:gd name="adj2" fmla="val 78559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14800" y="1752480"/>
            <a:ext cx="4129200" cy="510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9520" y="609480"/>
            <a:ext cx="2209680" cy="1981440"/>
          </a:xfrm>
          <a:prstGeom prst="leftArrow">
            <a:avLst>
              <a:gd name="adj1" fmla="val 50000"/>
              <a:gd name="adj2" fmla="val 27880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497560" cy="5943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29360" y="1066680"/>
            <a:ext cx="391464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95480" y="762120"/>
            <a:ext cx="2667240" cy="761760"/>
          </a:xfrm>
          <a:prstGeom prst="leftArrow">
            <a:avLst>
              <a:gd name="adj1" fmla="val 50000"/>
              <a:gd name="adj2" fmla="val 87535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这么多食物中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多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少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种食物最营养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有包含人类需要的所有营养吗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能总结一下吗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914400"/>
          <a:ext cx="5254560" cy="67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5254560" cy="67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 txBox="1"/>
          <p:nvPr/>
        </p:nvSpPr>
        <p:spPr>
          <a:xfrm>
            <a:off x="228600" y="380880"/>
            <a:ext cx="457200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华文新魏"/>
              </a:rPr>
              <a:t>一位小学生一天的食谱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3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